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7B3-2241-47F3-9AAF-C25C5494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9A0-42BD-405E-924F-E6C7D36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25D0-6363-42DF-BFB1-5AA0A2E0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CB0EF-329E-44C7-A1D1-25FF0D6D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1411-D25A-4627-A792-DF5C167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D241C-AA7C-4640-B7FB-FBDBEB9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C86B-7070-438A-8436-A1411C0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8F1EA-F4F5-4DC3-9153-029811BA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E8E6A-AD3B-4495-AD0C-91F758B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FB2B4-2A37-4F11-A43D-697CA9B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6183-BEA4-4D6E-97C3-8397D0DC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0FA-7ECD-4416-A8AE-18EACF1A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DF2-E8DC-4C02-96A2-16E1F09E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2033-C1BC-4CEA-9220-4E035F8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C50B-7C05-4569-BD72-347823C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7C4-5301-49D3-92A7-EF12BE4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13A4-AD44-46F8-AF7E-FB56C59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0BC-136D-4C63-A0BC-FBD4537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81D3-1FEE-433B-A5D0-1ADEE237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E32-20D4-428C-B72D-3F140D4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1D1-4796-4BF8-B8B3-BF8CBD9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DEFF-ED38-454A-A8EC-7AD1A59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39A-A9F9-48AC-8BE5-A9878A5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2242-0D60-4894-AA2E-7CDB6F1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FDC-CCF0-4DA4-AAB3-BEB3EA6B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EA10-6C2C-4308-82A9-9A198954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2F4C-383F-4E54-8BBC-8A915717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3821-3D21-4F4F-A867-5A15D49F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23B5-EDAC-4277-88E6-BE55C414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D24B-A6FC-432C-8BF2-ACCB401B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2D7D-93B4-4991-BAFD-C089DCD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825-0C69-4B78-89F9-402FDCEE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A996-AA8C-4CC5-8B4C-776746D8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9370-A27C-4D8B-A2A1-57D0E5DE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6A92-29F0-44CF-8EBD-17DE656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B8A5-08AD-4417-8286-3C6FF8B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034F-C753-41B5-B0DD-EFD8AD9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FA38-619B-423D-9C02-F9370536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7A7A-A0B0-42E8-BCB6-AFA86868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96BC-3275-48C2-9787-3A1CA77A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AEB6-AB91-44C0-9BF2-142CA59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D056-B06B-4C75-92AC-2BDF7E6D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CA5-4D22-4D06-9385-F5BF631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D1D1-BEB2-493F-8460-C1A4A73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175C-0A69-4050-B28E-0C5F9FCF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80D7-4767-4556-8D35-D01F95C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2017-B64C-4801-8D24-3B951C9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3EC0-1D4E-48B4-B851-31264B6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192C-63AA-416B-B5C7-7DB706A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6051-5E36-4EE0-A161-6A90D69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3AF0-43BA-4D34-A03F-66ED3AC4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C95E-F7E7-4011-89F3-E74328BF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4B66-C289-44C6-AA21-A8AE46FC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023-CBCB-4D81-886A-52ABFF3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7E29-5580-49BB-ACB5-35CC290F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180A-EFBD-42E1-A245-248355E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4176-1A82-4283-8DA9-B042F52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D2A5-6BB9-4B8A-B3C8-84D7FD7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026AF-2FED-4634-BCDD-14D3EE3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4ACC-215D-4BB3-A3F8-50494EB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8AFC-D65F-41C3-A84F-D554A408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B14C-ADF3-4257-AA40-394C17F0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45C4-2F37-4ED8-8847-00104C0B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A347-62D9-410E-8B88-EBF4D760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9E8-9E1E-4171-8C2F-64D01FA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4911B-3C23-4A08-9109-516567E1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4D88F-6038-403E-8EED-C0C71FF5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A23E-E32A-4680-AF04-23408A4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205E-F30D-42F8-A7B6-C6A02BBC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EC65-49FD-48DB-A5E1-12D5ED70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1CF5-F9E4-4F11-9553-7E58346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3740-238A-4E4D-8DAC-C080828F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8A388-8871-4F62-A917-DC38742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91AB6-66BC-41AF-9530-73BDF92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9512-42E3-47CE-8A40-552AB31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068-194B-4457-B730-A23123F8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8B33-FAD0-4533-95A5-CD7FAB8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2A25-4EF2-48C5-BF15-05A548E2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16FB5-52C0-4151-9117-468A86CA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FCDD-53B7-4A76-8258-4CC809D8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2AE3-7F23-4434-A6B7-DC756E7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1E3C-DE97-4744-B013-34BD498E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D272-0C6F-4450-9AAC-1EEF5C8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AC2B-C94F-44AE-A688-AA9E257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2230-08D4-4B68-9BED-B17CEC7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2782-D023-410D-992D-580FD894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EE9-5CCA-4137-B1D5-03077EF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288E-73D5-4069-B424-1909A7F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22C2-E121-4EC9-A788-BD98E39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3B3A-654B-4F58-8371-D874CE6E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AFCA-63A9-455A-9742-A9D57A56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077F-C253-4817-98D5-B8DA8453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AC6D-7846-43EF-880E-3ECEB24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D4D7-5277-456B-B0F0-A5E11A37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3D4B1-6210-4069-97F3-2A790CE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15F95-3333-41B2-9A79-10D6789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BA76-609E-48CE-885E-549C800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A9E-35F9-4C0A-96F7-E8360E2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C94E-DCCC-438A-B23F-E20B358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66549-6399-4C75-8608-E16AAD2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4171-D54F-41D0-BF8A-445F781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88115-6FFC-4C75-B670-8E07FB6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A0A0-0598-4209-A5A8-B6C38805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2B98-BE3F-47A6-B412-4D1352FB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BA53-A1EC-4CF3-8441-3E3CEFC7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C6B8-81DA-43A6-B7F1-7A0ECF8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AFB0C-7C43-49D8-929A-75446CAF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DA6C1-AB3B-462E-B30E-C95F572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0.png"/><Relationship Id="rId9" Type="http://schemas.openxmlformats.org/officeDocument/2006/relationships/image" Target="../media/image31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5340-340B-4C22-B15F-E032E34A6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7" name="Rounded Rectangle 7"/>
          <p:cNvGrpSpPr/>
          <p:nvPr/>
        </p:nvGrpSpPr>
        <p:grpSpPr>
          <a:xfrm>
            <a:off x="463680" y="1944720"/>
            <a:ext cx="8283600" cy="3024000"/>
            <a:chOff x="463680" y="1944720"/>
            <a:chExt cx="8283600" cy="3024000"/>
          </a:xfrm>
        </p:grpSpPr>
        <p:pic>
          <p:nvPicPr>
            <p:cNvPr id="48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463680" y="1944720"/>
              <a:ext cx="828360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50800" y="2031840"/>
              <a:ext cx="811548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0" name="Rounded Rectangle 9"/>
          <p:cNvGrpSpPr/>
          <p:nvPr/>
        </p:nvGrpSpPr>
        <p:grpSpPr>
          <a:xfrm>
            <a:off x="841320" y="1700280"/>
            <a:ext cx="7527960" cy="457200"/>
            <a:chOff x="841320" y="1700280"/>
            <a:chExt cx="7527960" cy="457200"/>
          </a:xfrm>
        </p:grpSpPr>
        <p:pic>
          <p:nvPicPr>
            <p:cNvPr id="51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841320" y="1700280"/>
              <a:ext cx="7527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88840" y="1747800"/>
              <a:ext cx="7439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3" name="Rounded Rectangle 10"/>
          <p:cNvGrpSpPr/>
          <p:nvPr/>
        </p:nvGrpSpPr>
        <p:grpSpPr>
          <a:xfrm>
            <a:off x="841320" y="4700520"/>
            <a:ext cx="7527960" cy="457200"/>
            <a:chOff x="841320" y="4700520"/>
            <a:chExt cx="7527960" cy="457200"/>
          </a:xfrm>
        </p:grpSpPr>
        <p:pic>
          <p:nvPicPr>
            <p:cNvPr id="54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841320" y="4700520"/>
              <a:ext cx="7527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90640" y="4749840"/>
              <a:ext cx="743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6" name="Rounded Rectangle 11"/>
          <p:cNvGrpSpPr/>
          <p:nvPr/>
        </p:nvGrpSpPr>
        <p:grpSpPr>
          <a:xfrm>
            <a:off x="5614920" y="1773360"/>
            <a:ext cx="2548080" cy="317520"/>
            <a:chOff x="5614920" y="1773360"/>
            <a:chExt cx="2548080" cy="317520"/>
          </a:xfrm>
        </p:grpSpPr>
        <p:pic>
          <p:nvPicPr>
            <p:cNvPr id="57" name="Rounded Rectangle 11" descr=""/>
            <p:cNvPicPr/>
            <p:nvPr/>
          </p:nvPicPr>
          <p:blipFill>
            <a:blip r:embed="rId7"/>
            <a:stretch/>
          </p:blipFill>
          <p:spPr>
            <a:xfrm>
              <a:off x="5614920" y="1773360"/>
              <a:ext cx="25480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59560" y="1817640"/>
              <a:ext cx="2462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" name="Group 17" descr=""/>
          <p:cNvPicPr/>
          <p:nvPr/>
        </p:nvPicPr>
        <p:blipFill>
          <a:blip r:embed="rId8"/>
          <a:stretch/>
        </p:blipFill>
        <p:spPr>
          <a:xfrm>
            <a:off x="5602320" y="1809720"/>
            <a:ext cx="1116000" cy="343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7EA8-8499-4015-854E-FE11405A2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0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4" name="Rounded Rectangle 6"/>
          <p:cNvGrpSpPr/>
          <p:nvPr/>
        </p:nvGrpSpPr>
        <p:grpSpPr>
          <a:xfrm>
            <a:off x="255600" y="262080"/>
            <a:ext cx="8626320" cy="6278400"/>
            <a:chOff x="255600" y="262080"/>
            <a:chExt cx="8626320" cy="6278400"/>
          </a:xfrm>
        </p:grpSpPr>
        <p:pic>
          <p:nvPicPr>
            <p:cNvPr id="105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255600" y="262080"/>
              <a:ext cx="8626320" cy="62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1280" y="351000"/>
              <a:ext cx="846144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549360" y="165240"/>
            <a:ext cx="282600" cy="282600"/>
            <a:chOff x="549360" y="165240"/>
            <a:chExt cx="282600" cy="282600"/>
          </a:xfrm>
        </p:grpSpPr>
        <p:pic>
          <p:nvPicPr>
            <p:cNvPr id="108" name="Oval 8" descr=""/>
            <p:cNvPicPr/>
            <p:nvPr/>
          </p:nvPicPr>
          <p:blipFill>
            <a:blip r:embed="rId5"/>
            <a:stretch/>
          </p:blipFill>
          <p:spPr>
            <a:xfrm>
              <a:off x="549360" y="165240"/>
              <a:ext cx="28260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Oval 7"/>
            <p:cNvGrpSpPr/>
            <p:nvPr/>
          </p:nvGrpSpPr>
          <p:grpSpPr>
            <a:xfrm>
              <a:off x="610200" y="225000"/>
              <a:ext cx="171720" cy="168480"/>
              <a:chOff x="610200" y="225000"/>
              <a:chExt cx="171720" cy="168480"/>
            </a:xfrm>
          </p:grpSpPr>
          <p:pic>
            <p:nvPicPr>
              <p:cNvPr id="110" name="Oval 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0200" y="225000"/>
                <a:ext cx="17172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651600" y="265680"/>
                <a:ext cx="9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Group 10"/>
          <p:cNvGrpSpPr/>
          <p:nvPr/>
        </p:nvGrpSpPr>
        <p:grpSpPr>
          <a:xfrm>
            <a:off x="914400" y="165240"/>
            <a:ext cx="284040" cy="282600"/>
            <a:chOff x="914400" y="165240"/>
            <a:chExt cx="284040" cy="282600"/>
          </a:xfrm>
        </p:grpSpPr>
        <p:pic>
          <p:nvPicPr>
            <p:cNvPr id="113" name="Oval 11" descr=""/>
            <p:cNvPicPr/>
            <p:nvPr/>
          </p:nvPicPr>
          <p:blipFill>
            <a:blip r:embed="rId7"/>
            <a:stretch/>
          </p:blipFill>
          <p:spPr>
            <a:xfrm>
              <a:off x="914400" y="165240"/>
              <a:ext cx="28404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Oval 12"/>
            <p:cNvGrpSpPr/>
            <p:nvPr/>
          </p:nvGrpSpPr>
          <p:grpSpPr>
            <a:xfrm>
              <a:off x="975600" y="225000"/>
              <a:ext cx="172800" cy="168480"/>
              <a:chOff x="975600" y="225000"/>
              <a:chExt cx="172800" cy="168480"/>
            </a:xfrm>
          </p:grpSpPr>
          <p:pic>
            <p:nvPicPr>
              <p:cNvPr id="115" name="Oval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975600" y="225000"/>
                <a:ext cx="17280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017360" y="265680"/>
                <a:ext cx="946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Group 13"/>
          <p:cNvGrpSpPr/>
          <p:nvPr/>
        </p:nvGrpSpPr>
        <p:grpSpPr>
          <a:xfrm>
            <a:off x="1289160" y="165240"/>
            <a:ext cx="284040" cy="282600"/>
            <a:chOff x="1289160" y="165240"/>
            <a:chExt cx="284040" cy="282600"/>
          </a:xfrm>
        </p:grpSpPr>
        <p:pic>
          <p:nvPicPr>
            <p:cNvPr id="118" name="Oval 14" descr=""/>
            <p:cNvPicPr/>
            <p:nvPr/>
          </p:nvPicPr>
          <p:blipFill>
            <a:blip r:embed="rId9"/>
            <a:stretch/>
          </p:blipFill>
          <p:spPr>
            <a:xfrm>
              <a:off x="1289160" y="165240"/>
              <a:ext cx="28404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val 15"/>
            <p:cNvGrpSpPr/>
            <p:nvPr/>
          </p:nvGrpSpPr>
          <p:grpSpPr>
            <a:xfrm>
              <a:off x="1349280" y="225000"/>
              <a:ext cx="174960" cy="168480"/>
              <a:chOff x="1349280" y="225000"/>
              <a:chExt cx="174960" cy="168480"/>
            </a:xfrm>
          </p:grpSpPr>
          <p:pic>
            <p:nvPicPr>
              <p:cNvPr id="120" name="Oval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9280" y="225000"/>
                <a:ext cx="17496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1392840" y="265680"/>
                <a:ext cx="928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092-6396-4F62-AB56-482BF3959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6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6" name="Rounded Rectangle 6"/>
          <p:cNvGrpSpPr/>
          <p:nvPr/>
        </p:nvGrpSpPr>
        <p:grpSpPr>
          <a:xfrm>
            <a:off x="463680" y="3676680"/>
            <a:ext cx="8216640" cy="2206440"/>
            <a:chOff x="463680" y="3676680"/>
            <a:chExt cx="8216640" cy="2206440"/>
          </a:xfrm>
        </p:grpSpPr>
        <p:pic>
          <p:nvPicPr>
            <p:cNvPr id="167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63680" y="3676680"/>
              <a:ext cx="821664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63400" y="3773520"/>
              <a:ext cx="8025120" cy="20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9" name="Rounded Rectangle 8"/>
          <p:cNvGrpSpPr/>
          <p:nvPr/>
        </p:nvGrpSpPr>
        <p:grpSpPr>
          <a:xfrm>
            <a:off x="841320" y="5619600"/>
            <a:ext cx="7527960" cy="463680"/>
            <a:chOff x="841320" y="5619600"/>
            <a:chExt cx="7527960" cy="463680"/>
          </a:xfrm>
        </p:grpSpPr>
        <p:pic>
          <p:nvPicPr>
            <p:cNvPr id="170" name="Rounded Rectangle 8" descr=""/>
            <p:cNvPicPr/>
            <p:nvPr/>
          </p:nvPicPr>
          <p:blipFill>
            <a:blip r:embed="rId5"/>
            <a:stretch/>
          </p:blipFill>
          <p:spPr>
            <a:xfrm>
              <a:off x="841320" y="5619600"/>
              <a:ext cx="75279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90640" y="5673600"/>
              <a:ext cx="743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2" name="Rounded Rectangle 7"/>
          <p:cNvGrpSpPr/>
          <p:nvPr/>
        </p:nvGrpSpPr>
        <p:grpSpPr>
          <a:xfrm>
            <a:off x="841320" y="3481560"/>
            <a:ext cx="7527960" cy="461880"/>
            <a:chOff x="841320" y="3481560"/>
            <a:chExt cx="7527960" cy="461880"/>
          </a:xfrm>
        </p:grpSpPr>
        <p:pic>
          <p:nvPicPr>
            <p:cNvPr id="173" name="Rounded Rectangle 7" descr=""/>
            <p:cNvPicPr/>
            <p:nvPr/>
          </p:nvPicPr>
          <p:blipFill>
            <a:blip r:embed="rId6"/>
            <a:stretch/>
          </p:blipFill>
          <p:spPr>
            <a:xfrm>
              <a:off x="841320" y="3481560"/>
              <a:ext cx="7527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88840" y="3530520"/>
              <a:ext cx="74390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5" name="Rounded Rectangle 9"/>
          <p:cNvGrpSpPr/>
          <p:nvPr/>
        </p:nvGrpSpPr>
        <p:grpSpPr>
          <a:xfrm>
            <a:off x="5614920" y="3554280"/>
            <a:ext cx="2548080" cy="316080"/>
            <a:chOff x="5614920" y="3554280"/>
            <a:chExt cx="2548080" cy="316080"/>
          </a:xfrm>
        </p:grpSpPr>
        <p:pic>
          <p:nvPicPr>
            <p:cNvPr id="176" name="Rounded Rectangle 9" descr=""/>
            <p:cNvPicPr/>
            <p:nvPr/>
          </p:nvPicPr>
          <p:blipFill>
            <a:blip r:embed="rId7"/>
            <a:stretch/>
          </p:blipFill>
          <p:spPr>
            <a:xfrm>
              <a:off x="5614920" y="3554280"/>
              <a:ext cx="254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659560" y="3602160"/>
              <a:ext cx="2462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78" name="Group 10" descr=""/>
          <p:cNvPicPr/>
          <p:nvPr/>
        </p:nvPicPr>
        <p:blipFill>
          <a:blip r:embed="rId8"/>
          <a:stretch/>
        </p:blipFill>
        <p:spPr>
          <a:xfrm>
            <a:off x="5602320" y="3591000"/>
            <a:ext cx="1116000" cy="341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082-6C84-444F-BD69-C4E7377A0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2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Rounded Rectangle 7"/>
          <p:cNvGrpSpPr/>
          <p:nvPr/>
        </p:nvGrpSpPr>
        <p:grpSpPr>
          <a:xfrm>
            <a:off x="255600" y="1189080"/>
            <a:ext cx="8626320" cy="5344920"/>
            <a:chOff x="255600" y="1189080"/>
            <a:chExt cx="8626320" cy="5344920"/>
          </a:xfrm>
        </p:grpSpPr>
        <p:pic>
          <p:nvPicPr>
            <p:cNvPr id="224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255600" y="1189080"/>
              <a:ext cx="8626320" cy="53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33360" y="1265400"/>
              <a:ext cx="8477280" cy="51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695160" y="1079640"/>
            <a:ext cx="282600" cy="282600"/>
            <a:chOff x="695160" y="1079640"/>
            <a:chExt cx="282600" cy="282600"/>
          </a:xfrm>
        </p:grpSpPr>
        <p:pic>
          <p:nvPicPr>
            <p:cNvPr id="227" name="Oval 9" descr=""/>
            <p:cNvPicPr/>
            <p:nvPr/>
          </p:nvPicPr>
          <p:blipFill>
            <a:blip r:embed="rId5"/>
            <a:stretch/>
          </p:blipFill>
          <p:spPr>
            <a:xfrm>
              <a:off x="695160" y="1079640"/>
              <a:ext cx="28260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Oval 10"/>
            <p:cNvGrpSpPr/>
            <p:nvPr/>
          </p:nvGrpSpPr>
          <p:grpSpPr>
            <a:xfrm>
              <a:off x="756000" y="1139400"/>
              <a:ext cx="171720" cy="168480"/>
              <a:chOff x="756000" y="1139400"/>
              <a:chExt cx="171720" cy="168480"/>
            </a:xfrm>
          </p:grpSpPr>
          <p:pic>
            <p:nvPicPr>
              <p:cNvPr id="229" name="Oval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756000" y="1139400"/>
                <a:ext cx="17172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797400" y="1180080"/>
                <a:ext cx="9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31" name="Group 11"/>
          <p:cNvGrpSpPr/>
          <p:nvPr/>
        </p:nvGrpSpPr>
        <p:grpSpPr>
          <a:xfrm>
            <a:off x="1050840" y="1079640"/>
            <a:ext cx="284400" cy="282600"/>
            <a:chOff x="1050840" y="1079640"/>
            <a:chExt cx="284400" cy="282600"/>
          </a:xfrm>
        </p:grpSpPr>
        <p:pic>
          <p:nvPicPr>
            <p:cNvPr id="232" name="Oval 12" descr=""/>
            <p:cNvPicPr/>
            <p:nvPr/>
          </p:nvPicPr>
          <p:blipFill>
            <a:blip r:embed="rId7"/>
            <a:stretch/>
          </p:blipFill>
          <p:spPr>
            <a:xfrm>
              <a:off x="1050840" y="1079640"/>
              <a:ext cx="28440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Oval 13"/>
            <p:cNvGrpSpPr/>
            <p:nvPr/>
          </p:nvGrpSpPr>
          <p:grpSpPr>
            <a:xfrm>
              <a:off x="1110960" y="1139400"/>
              <a:ext cx="174960" cy="168480"/>
              <a:chOff x="1110960" y="1139400"/>
              <a:chExt cx="174960" cy="168480"/>
            </a:xfrm>
          </p:grpSpPr>
          <p:pic>
            <p:nvPicPr>
              <p:cNvPr id="234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0960" y="1139400"/>
                <a:ext cx="17496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1154520" y="1180080"/>
                <a:ext cx="928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36" name="Group 14"/>
          <p:cNvGrpSpPr/>
          <p:nvPr/>
        </p:nvGrpSpPr>
        <p:grpSpPr>
          <a:xfrm>
            <a:off x="1427040" y="1079640"/>
            <a:ext cx="282600" cy="282600"/>
            <a:chOff x="1427040" y="1079640"/>
            <a:chExt cx="282600" cy="282600"/>
          </a:xfrm>
        </p:grpSpPr>
        <p:pic>
          <p:nvPicPr>
            <p:cNvPr id="237" name="Oval 15" descr=""/>
            <p:cNvPicPr/>
            <p:nvPr/>
          </p:nvPicPr>
          <p:blipFill>
            <a:blip r:embed="rId9"/>
            <a:stretch/>
          </p:blipFill>
          <p:spPr>
            <a:xfrm>
              <a:off x="1427040" y="1079640"/>
              <a:ext cx="28260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Oval 16"/>
            <p:cNvGrpSpPr/>
            <p:nvPr/>
          </p:nvGrpSpPr>
          <p:grpSpPr>
            <a:xfrm>
              <a:off x="1487880" y="1139400"/>
              <a:ext cx="171720" cy="168480"/>
              <a:chOff x="1487880" y="1139400"/>
              <a:chExt cx="171720" cy="168480"/>
            </a:xfrm>
          </p:grpSpPr>
          <p:pic>
            <p:nvPicPr>
              <p:cNvPr id="239" name="Oval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87880" y="1139400"/>
                <a:ext cx="17172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1529280" y="1180080"/>
                <a:ext cx="9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AB7-AE8A-4E72-8960-F34EBCACDB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5" name="Rounded Rectangle 10"/>
          <p:cNvGrpSpPr/>
          <p:nvPr/>
        </p:nvGrpSpPr>
        <p:grpSpPr>
          <a:xfrm>
            <a:off x="4614840" y="1341360"/>
            <a:ext cx="4267080" cy="5199120"/>
            <a:chOff x="4614840" y="1341360"/>
            <a:chExt cx="4267080" cy="5199120"/>
          </a:xfrm>
        </p:grpSpPr>
        <p:pic>
          <p:nvPicPr>
            <p:cNvPr id="286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614840" y="1341360"/>
              <a:ext cx="4267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84680" y="1411200"/>
              <a:ext cx="4137120" cy="50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8" name="Rounded Rectangle 9"/>
          <p:cNvGrpSpPr/>
          <p:nvPr/>
        </p:nvGrpSpPr>
        <p:grpSpPr>
          <a:xfrm>
            <a:off x="255600" y="1341360"/>
            <a:ext cx="4267080" cy="5199120"/>
            <a:chOff x="255600" y="1341360"/>
            <a:chExt cx="4267080" cy="5199120"/>
          </a:xfrm>
        </p:grpSpPr>
        <p:pic>
          <p:nvPicPr>
            <p:cNvPr id="28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255600" y="1341360"/>
              <a:ext cx="4267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22200" y="1411200"/>
              <a:ext cx="4137120" cy="50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614-63B3-4E1D-B3D5-072E73990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5" name="Rounded Rectangle 7"/>
          <p:cNvGrpSpPr/>
          <p:nvPr/>
        </p:nvGrpSpPr>
        <p:grpSpPr>
          <a:xfrm>
            <a:off x="255600" y="262080"/>
            <a:ext cx="8626320" cy="6278400"/>
            <a:chOff x="255600" y="262080"/>
            <a:chExt cx="8626320" cy="6278400"/>
          </a:xfrm>
        </p:grpSpPr>
        <p:pic>
          <p:nvPicPr>
            <p:cNvPr id="336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255600" y="262080"/>
              <a:ext cx="8626320" cy="62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41280" y="351000"/>
              <a:ext cx="846144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545-221A-498A-ACD5-44C1032974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2" name="Rounded Rectangle 7"/>
          <p:cNvGrpSpPr/>
          <p:nvPr/>
        </p:nvGrpSpPr>
        <p:grpSpPr>
          <a:xfrm>
            <a:off x="255600" y="262080"/>
            <a:ext cx="8626320" cy="6278400"/>
            <a:chOff x="255600" y="262080"/>
            <a:chExt cx="8626320" cy="6278400"/>
          </a:xfrm>
        </p:grpSpPr>
        <p:pic>
          <p:nvPicPr>
            <p:cNvPr id="38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255600" y="262080"/>
              <a:ext cx="8626320" cy="62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41280" y="351000"/>
              <a:ext cx="846144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49360" y="165240"/>
            <a:ext cx="282600" cy="282600"/>
            <a:chOff x="549360" y="165240"/>
            <a:chExt cx="282600" cy="282600"/>
          </a:xfrm>
        </p:grpSpPr>
        <p:pic>
          <p:nvPicPr>
            <p:cNvPr id="386" name="Oval 9" descr=""/>
            <p:cNvPicPr/>
            <p:nvPr/>
          </p:nvPicPr>
          <p:blipFill>
            <a:blip r:embed="rId5"/>
            <a:stretch/>
          </p:blipFill>
          <p:spPr>
            <a:xfrm>
              <a:off x="549360" y="165240"/>
              <a:ext cx="28260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7" name="Oval 10"/>
            <p:cNvGrpSpPr/>
            <p:nvPr/>
          </p:nvGrpSpPr>
          <p:grpSpPr>
            <a:xfrm>
              <a:off x="610200" y="225000"/>
              <a:ext cx="171720" cy="168480"/>
              <a:chOff x="610200" y="225000"/>
              <a:chExt cx="171720" cy="168480"/>
            </a:xfrm>
          </p:grpSpPr>
          <p:pic>
            <p:nvPicPr>
              <p:cNvPr id="388" name="Oval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610200" y="225000"/>
                <a:ext cx="17172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651600" y="265680"/>
                <a:ext cx="9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90" name="Group 11"/>
          <p:cNvGrpSpPr/>
          <p:nvPr/>
        </p:nvGrpSpPr>
        <p:grpSpPr>
          <a:xfrm>
            <a:off x="914400" y="165240"/>
            <a:ext cx="284040" cy="282600"/>
            <a:chOff x="914400" y="165240"/>
            <a:chExt cx="284040" cy="282600"/>
          </a:xfrm>
        </p:grpSpPr>
        <p:pic>
          <p:nvPicPr>
            <p:cNvPr id="391" name="Oval 12" descr=""/>
            <p:cNvPicPr/>
            <p:nvPr/>
          </p:nvPicPr>
          <p:blipFill>
            <a:blip r:embed="rId7"/>
            <a:stretch/>
          </p:blipFill>
          <p:spPr>
            <a:xfrm>
              <a:off x="914400" y="165240"/>
              <a:ext cx="28404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Oval 13"/>
            <p:cNvGrpSpPr/>
            <p:nvPr/>
          </p:nvGrpSpPr>
          <p:grpSpPr>
            <a:xfrm>
              <a:off x="975600" y="225000"/>
              <a:ext cx="172800" cy="168480"/>
              <a:chOff x="975600" y="225000"/>
              <a:chExt cx="172800" cy="168480"/>
            </a:xfrm>
          </p:grpSpPr>
          <p:pic>
            <p:nvPicPr>
              <p:cNvPr id="393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75600" y="225000"/>
                <a:ext cx="17280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017360" y="265680"/>
                <a:ext cx="946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95" name="Group 14"/>
          <p:cNvGrpSpPr/>
          <p:nvPr/>
        </p:nvGrpSpPr>
        <p:grpSpPr>
          <a:xfrm>
            <a:off x="1289160" y="165240"/>
            <a:ext cx="284040" cy="282600"/>
            <a:chOff x="1289160" y="165240"/>
            <a:chExt cx="284040" cy="282600"/>
          </a:xfrm>
        </p:grpSpPr>
        <p:pic>
          <p:nvPicPr>
            <p:cNvPr id="396" name="Oval 15" descr=""/>
            <p:cNvPicPr/>
            <p:nvPr/>
          </p:nvPicPr>
          <p:blipFill>
            <a:blip r:embed="rId9"/>
            <a:stretch/>
          </p:blipFill>
          <p:spPr>
            <a:xfrm>
              <a:off x="1289160" y="165240"/>
              <a:ext cx="28404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Oval 16"/>
            <p:cNvGrpSpPr/>
            <p:nvPr/>
          </p:nvGrpSpPr>
          <p:grpSpPr>
            <a:xfrm>
              <a:off x="1349280" y="225000"/>
              <a:ext cx="174960" cy="168480"/>
              <a:chOff x="1349280" y="225000"/>
              <a:chExt cx="174960" cy="168480"/>
            </a:xfrm>
          </p:grpSpPr>
          <p:pic>
            <p:nvPicPr>
              <p:cNvPr id="398" name="Oval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9280" y="225000"/>
                <a:ext cx="17496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1392840" y="265680"/>
                <a:ext cx="928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3A8-7BCD-406F-A802-2A2F30EF3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44" name="Rounded Rectangle 6"/>
          <p:cNvGrpSpPr/>
          <p:nvPr/>
        </p:nvGrpSpPr>
        <p:grpSpPr>
          <a:xfrm>
            <a:off x="255600" y="328680"/>
            <a:ext cx="7053120" cy="6138720"/>
            <a:chOff x="255600" y="328680"/>
            <a:chExt cx="7053120" cy="6138720"/>
          </a:xfrm>
        </p:grpSpPr>
        <p:pic>
          <p:nvPicPr>
            <p:cNvPr id="445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255600" y="328680"/>
              <a:ext cx="7053120" cy="61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39840" y="412920"/>
              <a:ext cx="6891120" cy="59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47" name="Group 7"/>
          <p:cNvGrpSpPr/>
          <p:nvPr/>
        </p:nvGrpSpPr>
        <p:grpSpPr>
          <a:xfrm>
            <a:off x="549360" y="219240"/>
            <a:ext cx="282600" cy="284040"/>
            <a:chOff x="549360" y="219240"/>
            <a:chExt cx="282600" cy="284040"/>
          </a:xfrm>
        </p:grpSpPr>
        <p:pic>
          <p:nvPicPr>
            <p:cNvPr id="448" name="Oval 8" descr=""/>
            <p:cNvPicPr/>
            <p:nvPr/>
          </p:nvPicPr>
          <p:blipFill>
            <a:blip r:embed="rId5"/>
            <a:stretch/>
          </p:blipFill>
          <p:spPr>
            <a:xfrm>
              <a:off x="549360" y="219240"/>
              <a:ext cx="282600" cy="2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Oval 9"/>
            <p:cNvGrpSpPr/>
            <p:nvPr/>
          </p:nvGrpSpPr>
          <p:grpSpPr>
            <a:xfrm>
              <a:off x="610200" y="279360"/>
              <a:ext cx="171720" cy="169200"/>
              <a:chOff x="610200" y="279360"/>
              <a:chExt cx="171720" cy="169200"/>
            </a:xfrm>
          </p:grpSpPr>
          <p:pic>
            <p:nvPicPr>
              <p:cNvPr id="450" name="Oval 9" descr=""/>
              <p:cNvPicPr/>
              <p:nvPr/>
            </p:nvPicPr>
            <p:blipFill>
              <a:blip r:embed="rId6"/>
              <a:stretch/>
            </p:blipFill>
            <p:spPr>
              <a:xfrm>
                <a:off x="610200" y="279360"/>
                <a:ext cx="17172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651600" y="320400"/>
                <a:ext cx="9396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452" name="Group 10"/>
          <p:cNvGrpSpPr/>
          <p:nvPr/>
        </p:nvGrpSpPr>
        <p:grpSpPr>
          <a:xfrm>
            <a:off x="914400" y="219240"/>
            <a:ext cx="284040" cy="284040"/>
            <a:chOff x="914400" y="219240"/>
            <a:chExt cx="284040" cy="284040"/>
          </a:xfrm>
        </p:grpSpPr>
        <p:pic>
          <p:nvPicPr>
            <p:cNvPr id="453" name="Oval 11" descr=""/>
            <p:cNvPicPr/>
            <p:nvPr/>
          </p:nvPicPr>
          <p:blipFill>
            <a:blip r:embed="rId7"/>
            <a:stretch/>
          </p:blipFill>
          <p:spPr>
            <a:xfrm>
              <a:off x="914400" y="21924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4" name="Oval 12"/>
            <p:cNvGrpSpPr/>
            <p:nvPr/>
          </p:nvGrpSpPr>
          <p:grpSpPr>
            <a:xfrm>
              <a:off x="975600" y="279360"/>
              <a:ext cx="172800" cy="169200"/>
              <a:chOff x="975600" y="279360"/>
              <a:chExt cx="172800" cy="169200"/>
            </a:xfrm>
          </p:grpSpPr>
          <p:pic>
            <p:nvPicPr>
              <p:cNvPr id="455" name="Oval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975600" y="279360"/>
                <a:ext cx="17280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1017360" y="320400"/>
                <a:ext cx="9468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457" name="Group 13"/>
          <p:cNvGrpSpPr/>
          <p:nvPr/>
        </p:nvGrpSpPr>
        <p:grpSpPr>
          <a:xfrm>
            <a:off x="1289160" y="219240"/>
            <a:ext cx="284040" cy="284040"/>
            <a:chOff x="1289160" y="219240"/>
            <a:chExt cx="284040" cy="284040"/>
          </a:xfrm>
        </p:grpSpPr>
        <p:pic>
          <p:nvPicPr>
            <p:cNvPr id="458" name="Oval 14" descr=""/>
            <p:cNvPicPr/>
            <p:nvPr/>
          </p:nvPicPr>
          <p:blipFill>
            <a:blip r:embed="rId9"/>
            <a:stretch/>
          </p:blipFill>
          <p:spPr>
            <a:xfrm>
              <a:off x="1289160" y="21924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9" name="Oval 15"/>
            <p:cNvGrpSpPr/>
            <p:nvPr/>
          </p:nvGrpSpPr>
          <p:grpSpPr>
            <a:xfrm>
              <a:off x="1349280" y="279360"/>
              <a:ext cx="174960" cy="169200"/>
              <a:chOff x="1349280" y="279360"/>
              <a:chExt cx="174960" cy="169200"/>
            </a:xfrm>
          </p:grpSpPr>
          <p:pic>
            <p:nvPicPr>
              <p:cNvPr id="460" name="Oval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9280" y="279360"/>
                <a:ext cx="17496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1392840" y="320400"/>
                <a:ext cx="9288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45684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5814720" y="655632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3501720" y="655632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678-3772-4393-B557-0E3B9C0D1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2"/>
          <a:stretch/>
        </p:blipFill>
        <p:spPr>
          <a:xfrm>
            <a:off x="682560" y="2262240"/>
            <a:ext cx="7828200" cy="1577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52520" y="3786120"/>
            <a:ext cx="64008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2"/>
          <a:stretch/>
        </p:blipFill>
        <p:spPr>
          <a:xfrm>
            <a:off x="347760" y="554040"/>
            <a:ext cx="8558280" cy="13240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503280" y="2101680"/>
            <a:ext cx="8120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вучит ужасно, но это факт – лекарственные препараты могут проявлять себя как вреднейший экологический фактор по отношению к внутриутробному плоду, вызывая пороки его развит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420840" y="1365120"/>
            <a:ext cx="3870000" cy="4638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428720" y="213840"/>
            <a:ext cx="46436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alibri"/>
              </a:rPr>
              <a:t>Действие лекарства на плод зависит от многих факторов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От срока беременности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Дозы и длительности употребления препарата матерью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Пути его введения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Состояние организма беременной женщины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Наследственных особенностей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Наследственных особенностей чувствительности к препара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2649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4" descr=""/>
          <p:cNvPicPr/>
          <p:nvPr/>
        </p:nvPicPr>
        <p:blipFill>
          <a:blip r:embed="rId2"/>
          <a:stretch/>
        </p:blipFill>
        <p:spPr>
          <a:xfrm>
            <a:off x="781200" y="2597040"/>
            <a:ext cx="7783200" cy="1481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352520" y="3786120"/>
            <a:ext cx="64008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trips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7:25:38Z</dcterms:created>
  <dc:creator>Maksak</dc:creator>
  <dc:description/>
  <dc:language>en-US</dc:language>
  <cp:lastModifiedBy>Vlad</cp:lastModifiedBy>
  <dcterms:modified xsi:type="dcterms:W3CDTF">2011-05-17T05:31:58Z</dcterms:modified>
  <cp:revision>55</cp:revision>
  <dc:subject/>
  <dc:title>Развитие организма и окружающая среда</dc:title>
</cp:coreProperties>
</file>